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277-DC6E-4A5C-BE7C-96CF65BF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264-3480-43AB-8575-E66FDD00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97D-96B9-47C2-85A9-4966B188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1DF-E678-492F-ACD8-A54E1075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97B-E5D2-4367-81E4-7771D586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90A-0DB1-4296-BF27-15798FE5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3D8-C2C8-47CD-801A-895FD9E9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398-B94F-46FB-8BDD-9B7D2D34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C0C-4615-4762-BAC6-28FAC426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2E3-C1CE-4109-A7AF-20C6751B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A08-E16C-4328-BFA7-5032A9F8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3D0-EF47-4EA1-AA5D-E0BCE27C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902F-AF9E-44B3-8447-78122C9A5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fullpointsfooty.net/images/GWanganeenEss2.jpg&amp;imgrefurl=http://www.fullpointsfooty.net/wa-wh.htm&amp;h=340&amp;w=271&amp;sz=12&amp;hl=en&amp;start=10&amp;tbnid=5yINOJhTHvhtsM:&amp;tbnh=119&amp;tbnw=95&amp;prev=/images%3Fq%3DGavin%2BWanganeen%26gbv%3D2%26hl%3Den%26safe%3Dstrict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.au/imgres?imgurl=http://upload.wikimedia.org/wikipedia/commons/thumb/0/01/Footy.JPG/800px-Footy.JPG&amp;imgrefurl=http://commons.wikimedia.org/wiki/Image:Footy.JPG&amp;h=536&amp;w=800&amp;sz=63&amp;hl=en&amp;start=8&amp;tbnid=jMldd9uwSUJCTM:&amp;tbnh=96&amp;tbnw=143&amp;prev=/images%3Fq%3Dfooty%26gbv%3D2%26hl%3Den%26safe%3Dstrict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00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534200">
            <a:off x="1547280" y="2349360"/>
            <a:ext cx="6480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erlin Sans FB"/>
              </a:rPr>
              <a:t>Gavin Wanganeen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erlin Sans FB"/>
              <a:ea typeface="Berlin Sans FB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3860640"/>
            <a:ext cx="1725840" cy="216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620640"/>
            <a:ext cx="2297160" cy="154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573408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: Mohamud Ali                    Class: 9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87280" y="4149720"/>
            <a:ext cx="20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vin Adrian Wanganeen was born in Mount Gambier on 18th June 197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2906640" cy="295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 rot="19531800">
            <a:off x="3419280" y="2923920"/>
            <a:ext cx="57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come Gavin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cc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140360" y="5661000"/>
            <a:ext cx="468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 Special G1"/>
              </a:rPr>
              <a:t>Career Honours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 Special G1"/>
              <a:ea typeface="Arial Narrow Special G1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85080" y="549360"/>
            <a:ext cx="2620800" cy="2373840"/>
            <a:chOff x="685080" y="549360"/>
            <a:chExt cx="2620800" cy="237384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807120" y="549360"/>
              <a:ext cx="1920960" cy="202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5080" y="2554920"/>
              <a:ext cx="262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93 Brownlow Med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3440" y="3429000"/>
            <a:ext cx="2643480" cy="2797920"/>
            <a:chOff x="613440" y="3429000"/>
            <a:chExt cx="2643480" cy="279792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823320" y="3429000"/>
              <a:ext cx="1545840" cy="23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13440" y="5858640"/>
              <a:ext cx="264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4 AFL Premiershi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492360" y="333360"/>
            <a:ext cx="2229120" cy="5051160"/>
            <a:chOff x="3492360" y="333360"/>
            <a:chExt cx="2229120" cy="505116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3492360" y="333360"/>
              <a:ext cx="2229120" cy="33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708360" y="3644640"/>
              <a:ext cx="1478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avin Wanganeen playing for Port Adelaide in 1990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 flipH="1">
            <a:off x="8136000" y="3573360"/>
            <a:ext cx="100800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588000" y="404640"/>
            <a:ext cx="2228760" cy="4329360"/>
            <a:chOff x="6588000" y="404640"/>
            <a:chExt cx="2228760" cy="432936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588000" y="404640"/>
              <a:ext cx="2228760" cy="33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911640" y="4005360"/>
              <a:ext cx="187200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 young Gavin Wanganeen at Essend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11640" y="4005360"/>
              <a:ext cx="1872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11640" y="4734000"/>
              <a:ext cx="1872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83640" y="4005360"/>
              <a:ext cx="0" cy="72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340000" y="404640"/>
            <a:ext cx="39546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rt Adelaide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6020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 Adelaide's first captai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Gavin Wanganeen"/>
          <p:cNvPicPr/>
          <p:nvPr/>
        </p:nvPicPr>
        <p:blipFill>
          <a:blip r:embed="rId1"/>
          <a:stretch/>
        </p:blipFill>
        <p:spPr>
          <a:xfrm>
            <a:off x="3059280" y="1989000"/>
            <a:ext cx="2454120" cy="3856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1334880"/>
            <a:ext cx="38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nd best and fairest 199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rd best and fairest 1993,9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-Australian 1992,93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hael Tuck medal 199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sendon premiership side 199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sendon night premiership sides     1993,9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 Adelaide premiership side 1990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 rot="19519200">
            <a:off x="4211280" y="1341000"/>
            <a:ext cx="347184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chievements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51640" y="3357720"/>
            <a:ext cx="2947680" cy="2368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987640" y="1484280"/>
            <a:ext cx="360216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End..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843280" y="3500280"/>
            <a:ext cx="3889440" cy="2679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3:22:31Z</dcterms:created>
  <dc:creator>Reservoir District Secondary College</dc:creator>
  <dc:description/>
  <dc:language>en-US</dc:language>
  <cp:lastModifiedBy>Reservoir District Secondary College</cp:lastModifiedBy>
  <dcterms:modified xsi:type="dcterms:W3CDTF">2008-07-17T02:31:26Z</dcterms:modified>
  <cp:revision>4</cp:revision>
  <dc:subject/>
  <dc:title>Slide 1</dc:title>
</cp:coreProperties>
</file>